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B9D3-E738-4FBE-896A-D282CB15B84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5D35-7E5D-44D8-98C2-8719B94856A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ulka č. 5: Vztah životních orientací a úrovně zralosti osobno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ide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VITEL, MUD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li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JAGO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ZÁVAZN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D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v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D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SBĚRATEL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NÁLEZ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77DD-2FE5-4780-9E45-F4E56FF5BC9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D856-31DC-4E35-8E74-EA94FB909EB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78D5-4BC5-4B82-8800-F445AAC8D3A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6C9F-90ED-4488-B6A6-68BA198EDD8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301D-9781-4839-B5C3-5C366170434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FAE1-D11D-45BA-BE40-731BCF2604B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C023-DE68-4380-BAFD-7126F311FE3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FE79-413C-4F13-AF4C-EF5FE92E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556-3C36-4828-9658-6C786BFC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4176-4CBB-463E-91FA-23A77659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A060-3AB6-40AF-9FA1-F6F763C5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204E-B3BD-48D3-A539-F84CF72F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10CA-535E-4373-9B18-36C39646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7BB3-4598-4655-8EF7-289906BE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1048-C0B2-4FAC-8C31-ECFBAE93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1F88-DEB4-4D86-A2E4-2BA6A890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54E4-A8B7-4A31-9A61-99949775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08AF-ABB0-4F65-9974-C1C3D5E4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0A1-384A-47C1-AAE8-49C2DD43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CB9A-BF1E-4D69-A26C-86382725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3A90-6E6E-4B5A-A16B-360FD930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62ED-00EE-4693-8FCE-3644ECBC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5C19-5940-4F73-BA3B-67D5EB26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84D1-0678-427E-9773-B2193ACD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BA9D-1EB8-4938-B8A3-FB3706F0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E9DD-57FD-4096-81C8-18D31536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EA5-2110-45D2-A87F-088EBC19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CEF7-E9A6-48DC-8B41-14C5E6C6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20E-E9D8-4ADE-809B-E8B196F9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A35-3215-4057-A2A8-C3D822EB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A47-714D-4BDA-9D8E-DE84194C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8426-F01C-42A3-B65E-C90ED2968C8A}" type="slidenum"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441C-C900-4CA5-AAF6-5E0BDF792A08}" type="slidenum"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308720" y="4869000"/>
            <a:ext cx="1656000" cy="15667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95280" y="4869000"/>
            <a:ext cx="83534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Prof. PhDr. Vladimír Smékal, CSc.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nstitut pro výzkum dětí, mládeže a rodin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SS MU, Br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856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OSOBNOSTNÍ A SOCIÁLNÍ PŘEDPOKLADY </a:t>
            </a: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ETICKÉ KULTURY OSOBNOSTI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Jak je využívat v etické výchově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8000" y="494172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3.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Osobnostní podmínky 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tické kultury osobnosti</a:t>
            </a:r>
            <a:br>
              <a:rPr sz="48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konstituce a temperamentu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zaměřenosti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stylů zvládání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intelektu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sebepojetí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BB6-0BC2-4421-B442-0DD1682A50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1052640"/>
            <a:ext cx="88851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Styly morálky podle D. Wright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95280" y="2060640"/>
          <a:ext cx="8424720" cy="4105080"/>
        </p:xfrm>
        <a:graphic>
          <a:graphicData uri="http://schemas.openxmlformats.org/drawingml/2006/table">
            <a:tbl>
              <a:tblPr/>
              <a:tblGrid>
                <a:gridCol w="1758960"/>
                <a:gridCol w="2454120"/>
                <a:gridCol w="2498760"/>
                <a:gridCol w="1712880"/>
              </a:tblGrid>
              <a:tr h="541440">
                <a:tc gridSpan="4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aximum odpovědnosti a ohleduplnosti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rowSpan="5">
                  <a:txBody>
                    <a:bodyPr lIns="92160" rIns="92160" tIns="46080" bIns="4608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Převaha vlivu dospělých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RAVNĚ ZRALÝ  STYL PROSOCIÁLNÍ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Převaha vlivu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vrstevníků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UVĚDOMĚLÝ ODPOVĚDNÝ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ŽIVELNĚ PROSOCIÁLNÍ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KALKULATIVNÍ TYP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KONFORMNÍ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VLIVNITELNÝ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TYL OVLÁDANÝ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MPULZY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MORÁLNÍ EGOCENTRICKÝ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 gridSpan="4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inimum odpovědnosti a ohleduplnosti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221F-FC96-4C82-A17A-BC022F978D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102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Morální instance jako překlápění </a:t>
            </a:r>
            <a:br>
              <a:rPr sz="3600"/>
            </a:b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vývojového v inteindividuáln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ffcc"/>
                </a:solidFill>
                <a:latin typeface="Times New Roman"/>
              </a:rPr>
              <a:t>Vývojová typologie J. Loevingerové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cc"/>
                </a:solidFill>
                <a:latin typeface="Times New Roman"/>
              </a:rPr>
              <a:t>Jiný přístup k určení vývojových stupňů vypracovala J. Loevingerová (1969). Zabývá se otázkou, jak se během vývoje utváří v osobnosti kontrolní instance, rostoucí způsobilost kontrolovat své impulsy a podřizovat nižší vyššímu. Tento růst seberegulace se dá také charakterizovat jako vývoj jáství, svědomí, morálky, resp. jako vývoj k odpovědnosti za své činy a k ohleduplnosti (uvážlivosti) ve vztahu k druhým a ke světu vůbec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cc"/>
                </a:solidFill>
                <a:latin typeface="Times New Roman"/>
              </a:rPr>
              <a:t>V uvažování o osobnosti jako celku budeme na tyto vývojové typy pohlížet jako na struktury, které se mohou v kterémkoliv vývojovém období zafixovat a přetrvávat; znamená to, že osobnostní vývoj se zastavil, přestože fyzicky se osobnost vyvíjí dále. Toto překlápění vývojového v interindividuální je stále častějším důsledkem nerovnoměrnosti v utváření osobnosti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33E-3B1B-45E4-B0BB-2DBECBACB5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640" y="691920"/>
            <a:ext cx="8885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5000" y="1341000"/>
            <a:ext cx="88963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rvnímu roku života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odpovídá stadium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autistické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předsociální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ro druhý a třetí rok života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je normální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být ovládán impulsy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(stadium impulsivní)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ro čtvrtý až osmý či desátý rok života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je přirozené být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oportunistický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Osmý či desátý až čtrnáctý či šestnáctý rok věku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je období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konformní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o šestnáctém roce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se někteří dospívající dostávají na úroveň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uvědomělou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, jednají v souladu s normou, protože ji schvalují jako svou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povinnost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Šesté stadium předpokládá dospělost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a je označováno jako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seberealizující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  Jednání podle morálních norem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9559-2E2D-4B0C-9C5C-3BDA03DE30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65000"/>
            <a:ext cx="792324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Vztah životních orientací a úrovně zralosti osob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773360"/>
          <a:ext cx="7772400" cy="3887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STRU-KTIVNÍ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KONZU-MEN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VŮR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 idej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ni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nob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yslite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 lidi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ago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ezávazný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ád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 věci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anda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běrate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ynález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DB2-E119-4729-9C20-92800A8C28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900900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Zdroje rozdílů mezi lidm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5000" y="1828440"/>
            <a:ext cx="889632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Psychologie individuálních rozdílů mezi lidmi konstatuje, že rozhodující zdroj povahových odlišností tkví v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ocializaci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(v tradici a zvycích, které jsou přenášeny       a udržovány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em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nikoliv však geny), ve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výchově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a  v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ndividuaci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Genetické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vysvětlování psychických rozdílů mezi lidmi končí dříve nebo později v resignaci na možnost změny osobnosti. Osobnost se tvoří spíše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em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164-7969-40AC-980C-D0E228FC9B16}" type="slidenum">
              <a:t>15</a:t>
            </a:fld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5518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ccccff"/>
                </a:solidFill>
                <a:latin typeface="Times New Roman"/>
              </a:rPr>
              <a:t>4.</a:t>
            </a:r>
            <a:br>
              <a:rPr sz="4700"/>
            </a:br>
            <a:r>
              <a:rPr b="1" lang="en-US" sz="4700" spc="-1" strike="noStrike">
                <a:solidFill>
                  <a:srgbClr val="ccccff"/>
                </a:solidFill>
                <a:latin typeface="Times New Roman"/>
              </a:rPr>
              <a:t>Aktuální geneze mravního činu</a:t>
            </a:r>
            <a:br>
              <a:rPr sz="4700"/>
            </a:b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Procesuální přístup k analýze 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psychologických podmínek 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etické kultury osob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E5F5-98F8-4C1C-910B-F158EC4F4B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Kohlbergův model morálního vývoj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5000" y="1773000"/>
            <a:ext cx="8896320" cy="44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První úroveň –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Prekonvenční usuzování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– je nejnižší úroveň morálního vývoje. Aktivity dětí na této úrovni nevykazují žádnou internalizaci morálních hodnot; morální usuzování je určováno vnějšími odměnami a trest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Druhá úroveň –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Konvenční usuzování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– zahrnuje jedince, kteří internalizovali určité standardy, ale jde o standardy druhých (rodičů, sociálních norem atd.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V rámci třetí úrovně morálního vývoje – má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Postkonvenční usuzování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jednotlivců komplexně internalizovaný morální standardy, a již žádný důvod založený na standardech druhých (Kohlberg, 1978). Např. člověk, který je na šestém stádiu konfrontován s konfliktem mezi zákonem a etickou vědomou vůlí, bude respektovat etické vědomí, i když tím riskuje svou osobní pohodu (Santrock, 1997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41C-B4EB-4ADF-8D7E-AA42C8DDD8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8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Komentář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5000" y="1844280"/>
            <a:ext cx="8896320" cy="44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Kohlbergův model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stojí na třech hierarchických úrovních, z nichž každá má dvě stádia. Na každém stádiu se důvody, které jedinec uvádí na obhajobu jednotlivých odpovědí na morální dilemata, stávají složitějšími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Kohlberg ujišťuje, že morální myšlení se může vyvíjet na základě výchovy, díky sociální interakci, kognitivním konfliktům, pozitivní morální atmosféře a demokratické participaci (Kohlberg, 1969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ájí na spravedlnosti založený komunitní přístup k výchově, která staví na rovnosti účastníků, na „vlastnictví“ rozhodování každého člena skupiny a na učiteli, který hájí zralé morální usuzování, ale nepředkládá mravní principy autoritativním způsobem. (Harding&amp;Snyder, 1991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D7F-8699-4595-A62B-C4C6018618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ccccff"/>
                </a:solidFill>
                <a:latin typeface="Times New Roman"/>
              </a:rPr>
              <a:t>Selmanův mode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vým výzkumem R. L. Selman vytvořil stádia přejímání sociálních rolí (social role taking stages), které je možno chápat jako spojení mezi Piagetovými stádii logického usuzování a Kohlbergovými stádii morálního usuzování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Jeho model sestává ze čtyř vzájemně interagujících komponent: logického usuzování, mravního usuzování, přejímání sociálních rolí a informací (Lozzi, 1990) Seman klade důraz na úlohu zkušenosti a učení, takže pokrok v zaujímání sociální perspektivy závisí hlavně na zkušenostech člověka s druhými, včetně vhodné sociální stimulace a výchovy. Postup na vyšší úrovně zaujímání sociální perspektivy závisí hlavně na správných sociálních zkušenostech (Atwood, 1992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B6D7-ECA9-4B14-B437-9C3B87C076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8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Motto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5000" y="1844280"/>
            <a:ext cx="889632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Rozhodl jsem se, že se přestanu zabýva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studiem neživé přírod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a pokusím se pochopit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jak je to možné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že člověk sice ví, co je dobré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ale dělá to, co je zlé</a:t>
            </a:r>
            <a:r>
              <a:rPr b="0" lang="en-US" sz="3200" spc="-1" strike="noStrike">
                <a:solidFill>
                  <a:srgbClr val="e0e02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kraté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245-4AB3-4A43-917D-6B20C0C538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ccff"/>
                </a:solidFill>
                <a:latin typeface="Times New Roman"/>
              </a:rPr>
              <a:t>Pět stádií morálního vývoje podle Selmana: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5000" y="1628280"/>
            <a:ext cx="8896320" cy="462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0 (3 – 6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Děti nedovedou jasně rozlišovat mezi jejich vlastní interpretací situací a hlediskem druhéh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1 (5 – 9</a:t>
            </a: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Ačkoliv si děti uvědomují, že druzí mohou mít odlišné názory (hlediska) než oni, nejsou s to chápat tyto názory (hlediska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2 ((7 – 12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Starší děti a preadolescenti jsou s to nahlížet na své myšlenky a city z hlediska druhých, ale nejsou s to podržet obě perspektivy současně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3 ((10 – 15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Adolescenti se dokáží vymanit ze svých způsobů nahlížení i z hledisek druhých, a dokáží zaujmout neutrální perspektivu třetí osoby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4 (adolescence – dospělos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Lidé na této úrovni zralosti jsou s to chápat své myšlenky a jednání na více abstraktní úrovni, která zahrnuje generalizovanou societální perspektivu (Seman, 1980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E0AC-6EF7-403A-AE9B-95CAAC98B8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ccff"/>
                </a:solidFill>
                <a:latin typeface="Times New Roman"/>
              </a:rPr>
              <a:t>Restův mode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1700280"/>
            <a:ext cx="889632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Na rozdíl od Piageta a Kohlberga, kteří pojednávají o logickém a morálním usuzování, James Rest poskytuje rámec pro porozumění morálnímu chování. Jeho čtyřkomponentový model obsahuje morální citlivost, morální úsudek, morální rozhodování a morální č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Rest uzavírá, že jeho návrh by měl být využit jako východisko pro formulování cílů programu etické výchov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Efektivní výchova charakteru by měla respektovat vývojové úrovně dětí a vytvářet program podle nic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D1DD-4C30-443F-8DC3-BDF30D3641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Fáze morálního rozhodován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citlivos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e poznání, že existuje situace, v níž morální jednání může být žádoucí a že takové činy mohou mít následky pro druhé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úsudek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e úsudek o tom, co je žádoucí udělat, zatím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rozhodování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zahrnuje posuzování alternativ a zvažování pro a proti ve světle jejich pravděpodobných následků pro aktéra a pro druhé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či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se týká vůle a dovedností uskutečnit rozhodnutí (Rest, 1983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F71-2E86-4705-85F9-AD60B58020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Situační podmínk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ís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Č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ontex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vádě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vádě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říležito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F3C-D6A5-4598-AC2A-95DBB881A6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Dispoziční podmínky čin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ztah k oblasti, která vyžaduje jednání či reagován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řijetí určitého etického kodexu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859-9D58-40F8-A61D-94C7FB0351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Momentální stav osobnos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Zdrav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Nálad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ředcházející událost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703A-F3ED-4BC0-8E44-422D7170A9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40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5.</a:t>
            </a:r>
            <a:br>
              <a:rPr sz="5400"/>
            </a:b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Jak realizovat etickou výchovu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AC7-FF2A-4350-A8F6-ED6C7291D8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676520" y="914400"/>
            <a:ext cx="5632200" cy="5394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ostave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8%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50%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harism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Times New Roman"/>
              </a:rPr>
              <a:t>,                                                    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yzařování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  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42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195280" y="213372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500720" y="981000"/>
            <a:ext cx="1440" cy="963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79640" y="3573360"/>
            <a:ext cx="2376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Kompet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C43A-2C3B-4630-AF84-C2328A47723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4640" y="871560"/>
            <a:ext cx="8885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5000" y="1773000"/>
            <a:ext cx="889632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tickou výchovu lze realizovat jen  interaktivně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yužívat metody dramatické výchov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likovat metodu přirozených následků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yužít situace – umět improvizov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Zkušenost s vlivem eticky laděných pohádek na etickou kulturu osob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losofie pro děti /s dětmi - Sokrates pro šestileté školá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užívat induktivní metodu – vést žáky k vyvozování pravidel a pak je zakotvovat v kodex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BF9D-BC59-482D-88A0-96F6793B78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zdělit tříd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čitel musí pracovat na sob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 úrovni institucionální a státní zaměstnanecké politiky: Podporovat prestiž a status učitelského povol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 úrovní osobní a sociální kultury – Dbát o svou pověst, nekazit si ji důvody k fámám o neuspořádaném osobním život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07A-897F-49E3-B98E-483F0BD3E8A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Osnov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0728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o je etická kultura osobnost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ociální podmínky etické kultur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Osobnostní podmínky etické kultury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Aktuální geneze mravního činu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Jak realizovat etickou výchovu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26A-C115-40DB-83A9-7FDCA35D9C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sobní rovnice vychovávajícíh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ředsudky – odpor – přenos, protipřen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ym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íra tolerance k odliš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ym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m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ci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5A0-8A49-48E2-B333-84539343BB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sobní rovnice vychovávanéh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8200" indent="-538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blasti citlivosti (psychické „alergie“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538200" indent="-538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blasti necitlivosti (psychosociální filtry, „slepé skvrny“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538200" indent="-538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ředsudk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59FB-387F-403B-B876-6137D7C992C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8885160" cy="7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žáka a okolnosti, které jej formovaly či deformova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své tendence k projekci a k haló efektu v hodnoce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své sklony k atribucím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své filtry zkreslující poznávání lid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B02B-0C53-41BA-A033-F2D7A498C64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4640" y="2204640"/>
            <a:ext cx="888516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Závěr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8C3-546B-470F-983C-614175F56B7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 změně osobnos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5000" y="1915920"/>
            <a:ext cx="889632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ejsnáze lze změnit řeč člověka,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btížněji se dá změnit chování,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ještě méně snadná je změna smýšlení.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Ale vůbec nejobtížnější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je změna lidského srdc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A86-EED6-4913-B8FF-51B28028527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900900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 síle víry v člově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5000" y="1773000"/>
            <a:ext cx="889632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Jednáme-li s lidmi podle toho,       jací jsou, činíme je horšími.   Jednáme-li s nimi, jako by už byli tím,             čím mohou být,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zavedeme je tam, kam je chceme zavés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J. W. Goeth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EAD1-2992-44AC-9FCF-872F8061DFE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8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Poselstv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5000" y="1989000"/>
            <a:ext cx="8896320" cy="42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Žij tak, jako bys žil po druhé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 snaž se ve svém jednání vyvarovat chyb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které bys v něm udělal poprvé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vět je ve špatném stavu a všechno bude ještě horší, pokud každý z nás neudělá to nejlepší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Od Osvětimi víme, čeho je člověk schopen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od Hirošimy víme, co vše je v sáz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ccff"/>
                </a:solidFill>
                <a:latin typeface="Times New Roman"/>
              </a:rPr>
              <a:t>V. E. Frank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1F4D-E940-4842-9FAF-75BA71EBCA0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1. Co je etická kultura osobnos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2115720"/>
            <a:ext cx="864216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Zlaté pravidlo mravnosti jako směrnice prožívání a jednání 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Uplatňování empatie ve vztazích k druhým lidem 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Prosociální orientace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Zaujímání sociální perspektivy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Respekt k oprávněným zájmům druhých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466D-40FD-470B-B198-BD6D29BE3A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981000"/>
            <a:ext cx="882972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2.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Sociokulturní podmínky 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tické kultury osobnosti</a:t>
            </a:r>
            <a:br>
              <a:rPr sz="48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širší podmínky života („duch doby“)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odinná situace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ozice dítěte v rodině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3071-AF38-463E-91A9-8F636741E5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6421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Jeden z největších světových historiků </a:t>
            </a:r>
            <a:br>
              <a:rPr sz="2800"/>
            </a:b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Edward Gibbon (1737-1794)</a:t>
            </a: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uvádí následujících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pět hlavních příčin rozkladu a pádu římské civilizac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2997000"/>
            <a:ext cx="8496000" cy="31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Zhroucení rodinné struktury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Oslabení smyslu pro osobní zodpovědnost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Nadměrné daně, striktní řízení a vládní intervence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Vyhledávání takových zábav, které se stávaly stále více  hedonistickými, násilnými a nemorálními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Úpadek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náboženství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F038-D4AC-4DD7-9C12-84A4089463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836280"/>
            <a:ext cx="821844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M. Gándhí pranýřoval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ccccff"/>
                </a:solidFill>
                <a:latin typeface="Times New Roman"/>
              </a:rPr>
              <a:t>sedm moderních sociálních hříchů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ku bez principů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dnikání bez morálky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hatství bez práce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ýchovu bez charakteru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ědu bez lidskosti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žitek bez svědomí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áboženství bez sebekáznění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48C1-0C63-4DCA-A3DC-D9AEA926F7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8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Sdružené prostřed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1844280"/>
            <a:ext cx="8896320" cy="44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Už Antifonés konstatoval, že </a:t>
            </a: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„Prostředí, kde se člověk zdržuje většinu dne, určuje jeho charakter.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Ve školní výchově se málo bere v úvahu úloha citové vazby (attacheme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Pozice dítěte v rodině, workoholismus rodičů, partnerské kriz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Chudoba, sociální zanedbanost vedou k morálním dilematům -  zakomplexovanosti,  sklonu krást, závidět, šikanovat, ale i k apatii a sociální necitliv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BFB2-C0D3-46A7-B958-77B847333B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6407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rovnání nejčastějších přestupků dětí a dospívajících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ve veřejných školách USA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na konci třicátých a na konci osmdesátých let 20. sto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032360" cy="404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194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luvení bez přihláše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Žvýkání žvýkačk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Hluče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Pobíhání po chodbá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Předbíhá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Nedodržování  předepsaného obleče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Znečišťování prosto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240" y="2205000"/>
            <a:ext cx="4010040" cy="38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1990 - 200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Používání mobilu k hraní h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Užívání drog, pití alkohol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ěhotenství nezletilých díve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ebevražd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Znásilně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Krádež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ěžké ublížení na zdrav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erorismus, agrese a nási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2FFB-A100-44C0-9712-E9FAD232BC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6:55:10Z</dcterms:created>
  <dc:creator>Prof. PhDr. Vladimír Smékal</dc:creator>
  <dc:description/>
  <dc:language>en-US</dc:language>
  <cp:lastModifiedBy>rauchova</cp:lastModifiedBy>
  <dcterms:modified xsi:type="dcterms:W3CDTF">2009-06-12T10:15:54Z</dcterms:modified>
  <cp:revision>35</cp:revision>
  <dc:subject/>
  <dc:title>Psychologie osobnosti  ve  výchově a vedení lidí</dc:title>
</cp:coreProperties>
</file>